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gif" ContentType="image/gi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F9E-AA51-4921-AAC8-9677E1E9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DF0-C63A-4EDF-8DB4-A5A58EC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F14-7FE2-42F0-A0AF-6B9117B1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9BB-3D13-4317-AC66-6FBB8AA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44D-F3BD-43DC-A0FA-875A1E1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660-25BD-48A2-B34F-7EE53F2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5B0-20A7-4547-A048-7B5910F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BAF-94C0-4C23-80F9-EDD0747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DF3-F885-4318-976E-A237E687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F93-7355-41E8-94F3-F671E4A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B36-8995-4E0A-9CB3-16E7889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7AB-CC55-4BD7-A222-506FC43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FC7-22A6-498D-A1ED-E425F745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4.wmf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ma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Angelina, Claire, and Ni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229400">
            <a:off x="4038120" y="1980720"/>
            <a:ext cx="381240" cy="335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936000">
            <a:off x="5181120" y="3276360"/>
            <a:ext cx="395280" cy="56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439920" cy="53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789000">
            <a:off x="4800600" y="419076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343400" y="1752480"/>
            <a:ext cx="844560" cy="25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456200">
            <a:off x="4419360" y="426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5181480" y="4038480"/>
            <a:ext cx="428760" cy="435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19240200">
            <a:off x="4266720" y="3733560"/>
            <a:ext cx="32076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105520" y="2057400"/>
            <a:ext cx="288720" cy="41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19462200">
            <a:off x="4038480" y="33523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 rot="2436600">
            <a:off x="4114440" y="2971440"/>
            <a:ext cx="24624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>
            <a:lum contrast="40000"/>
          </a:blip>
          <a:stretch/>
        </p:blipFill>
        <p:spPr>
          <a:xfrm rot="1145400">
            <a:off x="4038120" y="2590560"/>
            <a:ext cx="277920" cy="282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267080" y="2286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 rot="1030200">
            <a:off x="4876920" y="38858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 rot="19942200">
            <a:off x="5181480" y="312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mazone BT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ingdom of Kerma lasted from about 2000-1500 B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Kerma got most of its wealth because they controlled the trade between Central Asia and Egy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745800">
            <a:off x="6552720" y="304920"/>
            <a:ext cx="744480" cy="22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mazone BT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 in Kerma were highly skilled at making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round the 1500s B.C. the Egyptians took over Nubia.  Egypt ruled Nubia for about the next _____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ulder"/>
              </a:rPr>
              <a:t>BONUS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Kerma closer to Napata or Mer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ë</a:t>
            </a:r>
            <a:r>
              <a:rPr b="1" lang="en-US" sz="6000" spc="-1" strike="noStrike">
                <a:solidFill>
                  <a:srgbClr val="f115b7"/>
                </a:solidFill>
                <a:latin typeface="Arial"/>
                <a:ea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5334120"/>
            <a:ext cx="554040" cy="63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5638680"/>
            <a:ext cx="61884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33720" y="5181480"/>
            <a:ext cx="819000" cy="9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" y="5562720"/>
            <a:ext cx="81900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84880" y="4295880"/>
            <a:ext cx="1959120" cy="25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276720" y="5638680"/>
            <a:ext cx="61884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267080" y="5915160"/>
            <a:ext cx="81936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523880" y="6048360"/>
            <a:ext cx="619200" cy="80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115b7"/>
                </a:solidFill>
                <a:latin typeface="Alba Super"/>
              </a:rPr>
              <a:t>Congratulations!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7848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15b7"/>
                </a:solidFill>
                <a:latin typeface="Market"/>
              </a:rPr>
              <a:t>GOOD JOB!!!!!!!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15b7"/>
                </a:solidFill>
                <a:latin typeface="Market"/>
              </a:rPr>
              <a:t>You finished the quiz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89584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44:51Z</dcterms:created>
  <dc:creator>Default</dc:creator>
  <dc:description/>
  <dc:language>en-US</dc:language>
  <cp:lastModifiedBy>Marc Swanson</cp:lastModifiedBy>
  <dcterms:modified xsi:type="dcterms:W3CDTF">2009-01-15T22:05:05Z</dcterms:modified>
  <cp:revision>15</cp:revision>
  <dc:subject/>
  <dc:title>Kerma Quiz</dc:title>
</cp:coreProperties>
</file>